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92AF-4E92-4E6C-B075-F44251314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AE2A-9780-4137-B54B-47831FC3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A95B-2077-478B-8A18-65A59CCCF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C8F2-0AD9-4358-88CF-4EF1666A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229C-39F2-40A0-BC5A-B222B20F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D4F3-0347-4104-851B-3C770CC1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3FF5-FBDB-41D8-927C-65CE5B73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363B-9DB9-45E5-83B3-D5B60F18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93CC-2C84-4A6B-A2B9-18C2DED2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D165-C61B-46FF-BF70-090D501C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B5B3-571A-42AA-9F6D-143D8A70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CDE8-EF89-4FC5-922E-E3BDB149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27DF-4501-4AE3-B3C7-EB614A500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ga.ru/mscdoma/imagepages/image5.html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dga.ru/mscdoma/imagepages/image23.html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edga.ru/mscdoma/imagepages/image25.html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edga.ru/mscdoma/imagepages/image3.html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152280"/>
            <a:ext cx="51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Что я вижу за окн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1789200"/>
            <a:ext cx="6858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Видеоэкология (от лат.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video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 — видеть, греч.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οικος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 и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λόγος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 — экология) — это область знания о взаимодействии человека с окружающей видимой сре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Визуальная среда – совокупность объектов, воспринимаемых человеческим взглядом в определенной мес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Гостиница Космос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3364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Москва. Улицы, дом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Замоскворечье, клумба с тюльпанами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Овчинниковская набережная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Гостиница Советская. Санкт-Петербург"/>
          <p:cNvPicPr/>
          <p:nvPr/>
        </p:nvPicPr>
        <p:blipFill>
          <a:blip r:embed="rId9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Московский вокзал"/>
          <p:cNvPicPr/>
          <p:nvPr/>
        </p:nvPicPr>
        <p:blipFill>
          <a:blip r:embed="rId10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Бассейн СК Олимпийский"/>
          <p:cNvPicPr/>
          <p:nvPr/>
        </p:nvPicPr>
        <p:blipFill>
          <a:blip r:embed="rId11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Лето. Тропинка и пруд"/>
          <p:cNvPicPr/>
          <p:nvPr/>
        </p:nvPicPr>
        <p:blipFill>
          <a:blip r:embed="rId12"/>
          <a:stretch/>
        </p:blipFill>
        <p:spPr>
          <a:xfrm>
            <a:off x="2057400" y="1523880"/>
            <a:ext cx="5105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33600" y="642960"/>
            <a:ext cx="42768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43200" y="990720"/>
            <a:ext cx="3886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HH</cp:lastModifiedBy>
  <dcterms:modified xsi:type="dcterms:W3CDTF">2008-11-14T04:55:5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